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594-F89C-42F3-9F20-B792AB03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FC8-19D4-447B-ADEC-3E72442F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ED4-7072-408C-AC7D-A2655F1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083-78AF-4D23-8833-6F45BDB1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9BE4-B965-4D29-8172-198073CB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B2B7-BA4A-46A9-82BE-2EE517E2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933E-49DA-4E60-915C-3BE122B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74E-5CC5-4E8F-BA9F-01E5C4E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0300-6574-46F8-B948-DFFAD64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A07-3D26-46F0-8698-857DF5C3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4F9-CFCE-4F58-90D3-797C5D1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B0A-72C9-4924-8A5F-00E2180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A8C-9CCC-4208-BE44-D711BA1A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0A61-31C7-46FD-9A68-63FDAA0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259-30F5-4630-84DE-1947D7B7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6FB-0D7F-43A6-A4DC-9A334243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089C-9AC8-4E9C-9435-EFD123F0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13E-3B89-4C2F-86B9-4BF01B9D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7D0-3FF8-40D0-A5C9-929B6C7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551-624F-42FC-AD18-930CFC3F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69A-1253-452C-A1C0-DF997DC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2F0-8BAD-4C39-AD26-59215FA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343-BA92-4C0D-8A96-408AA99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047-7874-46E8-9677-A97B674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34A-502F-40DF-B290-DA445235B8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84F-3864-4F06-95AE-5A89E845E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76280"/>
            <a:ext cx="7405920" cy="295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научной проектной деятельност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абота с картами на уроках истории и использование информационно-графического приема ГРАФ как составной части информационно-коммуникационной технологии»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минация- 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лавная педагогическая цель моего опыта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64" name="Diagram 20"/>
          <p:cNvGrpSpPr/>
          <p:nvPr/>
        </p:nvGrpSpPr>
        <p:grpSpPr>
          <a:xfrm>
            <a:off x="3239280" y="1906560"/>
            <a:ext cx="4728960" cy="4096800"/>
            <a:chOff x="3239280" y="1906560"/>
            <a:chExt cx="4728960" cy="4096800"/>
          </a:xfrm>
        </p:grpSpPr>
        <p:sp>
          <p:nvSpPr>
            <p:cNvPr id="265" name="_s1028"/>
            <p:cNvSpPr/>
            <p:nvPr/>
          </p:nvSpPr>
          <p:spPr>
            <a:xfrm>
              <a:off x="4162320" y="1906560"/>
              <a:ext cx="2884680" cy="28846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884680"/>
                <a:gd name="textAreaBottom" fmla="*/ 2885040 h 288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66" name="_s1029"/>
            <p:cNvSpPr/>
            <p:nvPr/>
          </p:nvSpPr>
          <p:spPr>
            <a:xfrm rot="7200000">
              <a:off x="4555800" y="2590920"/>
              <a:ext cx="2884320" cy="28843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67" name="_s1030"/>
            <p:cNvSpPr/>
            <p:nvPr/>
          </p:nvSpPr>
          <p:spPr>
            <a:xfrm rot="14400000">
              <a:off x="3767040" y="2586960"/>
              <a:ext cx="2884320" cy="288468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4680"/>
                <a:gd name="textAreaBottom" fmla="*/ 2885040 h 288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68" name="_s1031"/>
            <p:cNvSpPr/>
            <p:nvPr/>
          </p:nvSpPr>
          <p:spPr>
            <a:xfrm>
              <a:off x="6394320" y="2435400"/>
              <a:ext cx="115740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ерез творчески-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ритическое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ышление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69" name="_s1032"/>
            <p:cNvSpPr/>
            <p:nvPr/>
          </p:nvSpPr>
          <p:spPr>
            <a:xfrm>
              <a:off x="5025960" y="48052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оретическому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ышлению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70" name="_s1033"/>
            <p:cNvSpPr/>
            <p:nvPr/>
          </p:nvSpPr>
          <p:spPr>
            <a:xfrm>
              <a:off x="3657600" y="2435400"/>
              <a:ext cx="115740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т наглядно-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ного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ышления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10920" y="0"/>
            <a:ext cx="6427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Работы учеников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DSC01276"/>
          <p:cNvPicPr/>
          <p:nvPr/>
        </p:nvPicPr>
        <p:blipFill>
          <a:blip r:embed="rId1"/>
          <a:stretch/>
        </p:blipFill>
        <p:spPr>
          <a:xfrm>
            <a:off x="2268360" y="2781360"/>
            <a:ext cx="3673800" cy="374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Граф Монголии"/>
          <p:cNvPicPr/>
          <p:nvPr/>
        </p:nvPicPr>
        <p:blipFill>
          <a:blip r:embed="rId2"/>
          <a:stretch/>
        </p:blipFill>
        <p:spPr>
          <a:xfrm>
            <a:off x="5508720" y="1052640"/>
            <a:ext cx="3452760" cy="3987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Граф РФ"/>
          <p:cNvPicPr/>
          <p:nvPr/>
        </p:nvPicPr>
        <p:blipFill>
          <a:blip r:embed="rId3"/>
          <a:stretch/>
        </p:blipFill>
        <p:spPr>
          <a:xfrm>
            <a:off x="4788000" y="3573360"/>
            <a:ext cx="4132080" cy="2919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Граф С"/>
          <p:cNvPicPr/>
          <p:nvPr/>
        </p:nvPicPr>
        <p:blipFill>
          <a:blip r:embed="rId4"/>
          <a:stretch/>
        </p:blipFill>
        <p:spPr>
          <a:xfrm>
            <a:off x="2268360" y="1052640"/>
            <a:ext cx="3908520" cy="406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Граф Краснод"/>
          <p:cNvPicPr/>
          <p:nvPr/>
        </p:nvPicPr>
        <p:blipFill>
          <a:blip r:embed="rId5"/>
          <a:stretch/>
        </p:blipFill>
        <p:spPr>
          <a:xfrm>
            <a:off x="3203640" y="187020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ГРАФ -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важное подспорье в работе с картой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Ф- конечно, ни в коей мере не может заменить ка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Ф является лишь производной от н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он позволяет намного глубже проникать в карту, лучше рассмотреть и запомнить её, чтобы учащийся потом вновь вернулся к карте, вооружённый новой, обостренной наблюда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Где можно использовать этот информационно-графический приём?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81" name="Organization Chart 7"/>
          <p:cNvGrpSpPr/>
          <p:nvPr/>
        </p:nvGrpSpPr>
        <p:grpSpPr>
          <a:xfrm>
            <a:off x="2435400" y="1341360"/>
            <a:ext cx="6336360" cy="5254560"/>
            <a:chOff x="2435400" y="1341360"/>
            <a:chExt cx="6336360" cy="525456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6186600" y="2858760"/>
              <a:ext cx="1051560" cy="22183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>
              <a:off x="5603400" y="3442320"/>
              <a:ext cx="2520" cy="105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969000" y="2859120"/>
              <a:ext cx="1051560" cy="22183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4" name="_s2055"/>
            <p:cNvSpPr/>
            <p:nvPr/>
          </p:nvSpPr>
          <p:spPr>
            <a:xfrm>
              <a:off x="4653000" y="1341360"/>
              <a:ext cx="1900800" cy="2101680"/>
            </a:xfrm>
            <a:custGeom>
              <a:avLst/>
              <a:gdLst>
                <a:gd name="textAreaLeft" fmla="*/ 92520 w 1900800"/>
                <a:gd name="textAreaRight" fmla="*/ 1808280 w 1900800"/>
                <a:gd name="textAreaTop" fmla="*/ 92520 h 2101680"/>
                <a:gd name="textAreaBottom" fmla="*/ 2009160 h 2101680"/>
              </a:gdLst>
              <a:ahLst/>
              <a:rect l="textAreaLeft" t="textAreaTop" r="textAreaRight" b="textAreaBottom"/>
              <a:pathLst>
                <a:path w="21600" h="23882">
                  <a:moveTo>
                    <a:pt x="3600" y="0"/>
                  </a:moveTo>
                  <a:arcTo wR="3600" hR="3600" stAng="16200000" swAng="-5400000"/>
                  <a:lnTo>
                    <a:pt x="0" y="20282"/>
                  </a:lnTo>
                  <a:arcTo wR="3600" hR="3600" stAng="10800000" swAng="-5400000"/>
                  <a:lnTo>
                    <a:pt x="18000" y="238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 уроках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стории,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еографии,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убановедения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88" name="_s2056"/>
            <p:cNvSpPr/>
            <p:nvPr/>
          </p:nvSpPr>
          <p:spPr>
            <a:xfrm>
              <a:off x="2435400" y="4494240"/>
              <a:ext cx="1900800" cy="2101680"/>
            </a:xfrm>
            <a:custGeom>
              <a:avLst/>
              <a:gdLst>
                <a:gd name="textAreaLeft" fmla="*/ 92520 w 1900800"/>
                <a:gd name="textAreaRight" fmla="*/ 1808280 w 1900800"/>
                <a:gd name="textAreaTop" fmla="*/ 92520 h 2101680"/>
                <a:gd name="textAreaBottom" fmla="*/ 2009160 h 2101680"/>
              </a:gdLst>
              <a:ahLst/>
              <a:rect l="textAreaLeft" t="textAreaTop" r="textAreaRight" b="textAreaBottom"/>
              <a:pathLst>
                <a:path w="21600" h="23882">
                  <a:moveTo>
                    <a:pt x="3600" y="0"/>
                  </a:moveTo>
                  <a:arcTo wR="3600" hR="3600" stAng="16200000" swAng="-5400000"/>
                  <a:lnTo>
                    <a:pt x="0" y="20282"/>
                  </a:lnTo>
                  <a:arcTo wR="3600" hR="3600" stAng="10800000" swAng="-5400000"/>
                  <a:lnTo>
                    <a:pt x="18000" y="238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мостоятельной,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ктической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боты 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ащихся.</a:t>
              </a:r>
              <a:endParaRPr b="0" lang="en-US" sz="16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86" name="_s2057"/>
            <p:cNvSpPr/>
            <p:nvPr/>
          </p:nvSpPr>
          <p:spPr>
            <a:xfrm>
              <a:off x="4653000" y="4494240"/>
              <a:ext cx="1900800" cy="2101680"/>
            </a:xfrm>
            <a:custGeom>
              <a:avLst/>
              <a:gdLst>
                <a:gd name="textAreaLeft" fmla="*/ 92520 w 1900800"/>
                <a:gd name="textAreaRight" fmla="*/ 1808280 w 1900800"/>
                <a:gd name="textAreaTop" fmla="*/ 92520 h 2101680"/>
                <a:gd name="textAreaBottom" fmla="*/ 2009160 h 2101680"/>
              </a:gdLst>
              <a:ahLst/>
              <a:rect l="textAreaLeft" t="textAreaTop" r="textAreaRight" b="textAreaBottom"/>
              <a:pathLst>
                <a:path w="21600" h="23882">
                  <a:moveTo>
                    <a:pt x="3600" y="0"/>
                  </a:moveTo>
                  <a:arcTo wR="3600" hR="3600" stAng="16200000" swAng="-5400000"/>
                  <a:lnTo>
                    <a:pt x="0" y="20282"/>
                  </a:lnTo>
                  <a:arcTo wR="3600" hR="3600" stAng="10800000" swAng="-5400000"/>
                  <a:lnTo>
                    <a:pt x="18000" y="238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проверке 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наний учащихся,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пользуя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зноуровневые 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дания различной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и 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ложност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6870960" y="4494240"/>
              <a:ext cx="1900800" cy="2101680"/>
            </a:xfrm>
            <a:custGeom>
              <a:avLst/>
              <a:gdLst>
                <a:gd name="textAreaLeft" fmla="*/ 92520 w 1900800"/>
                <a:gd name="textAreaRight" fmla="*/ 1808280 w 1900800"/>
                <a:gd name="textAreaTop" fmla="*/ 92520 h 2101680"/>
                <a:gd name="textAreaBottom" fmla="*/ 2009160 h 2101680"/>
              </a:gdLst>
              <a:ahLst/>
              <a:rect l="textAreaLeft" t="textAreaTop" r="textAreaRight" b="textAreaBottom"/>
              <a:pathLst>
                <a:path w="21600" h="23882">
                  <a:moveTo>
                    <a:pt x="3600" y="0"/>
                  </a:moveTo>
                  <a:arcTo wR="3600" hR="3600" stAng="16200000" swAng="-5400000"/>
                  <a:lnTo>
                    <a:pt x="0" y="20282"/>
                  </a:lnTo>
                  <a:arcTo wR="3600" hR="3600" stAng="10800000" swAng="-5400000"/>
                  <a:lnTo>
                    <a:pt x="18000" y="238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а обобщающих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роках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и анализе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овременной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еополитической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итуации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гионов, стран и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равнения с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торическим 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шлым.</a:t>
              </a:r>
              <a:endParaRPr b="0" lang="en-US" sz="1200" spc="-1" strike="noStrike">
                <a:solidFill>
                  <a:srgbClr val="8c003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61920"/>
            <a:ext cx="487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2438280" y="2805120"/>
          <a:ext cx="31244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05120"/>
                    <a:ext cx="31244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Organization Chart 12"/>
          <p:cNvGrpSpPr/>
          <p:nvPr/>
        </p:nvGrpSpPr>
        <p:grpSpPr>
          <a:xfrm>
            <a:off x="2771640" y="260280"/>
            <a:ext cx="6018120" cy="5773680"/>
            <a:chOff x="2771640" y="260280"/>
            <a:chExt cx="6018120" cy="5773680"/>
          </a:xfrm>
        </p:grpSpPr>
        <p:cxnSp>
          <p:nvCxnSpPr>
            <p:cNvPr id="293" name="_s3076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6257880" y="2093040"/>
              <a:ext cx="1155240" cy="21067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3077"/>
            <p:cNvCxnSpPr>
              <a:stCxn id="297" idx="0"/>
              <a:endCxn id="295" idx="2"/>
            </p:cNvCxnSpPr>
            <p:nvPr/>
          </p:nvCxnSpPr>
          <p:spPr>
            <a:xfrm flipV="1">
              <a:off x="5782320" y="2568960"/>
              <a:ext cx="2520" cy="11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3078"/>
            <p:cNvCxnSpPr>
              <a:stCxn id="299" idx="0"/>
              <a:endCxn id="295" idx="2"/>
            </p:cNvCxnSpPr>
            <p:nvPr/>
          </p:nvCxnSpPr>
          <p:spPr>
            <a:xfrm flipH="1" flipV="1" rot="5400000">
              <a:off x="4151160" y="2093400"/>
              <a:ext cx="1155240" cy="21067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5" name="_s3079"/>
            <p:cNvSpPr/>
            <p:nvPr/>
          </p:nvSpPr>
          <p:spPr>
            <a:xfrm>
              <a:off x="4878000" y="260280"/>
              <a:ext cx="1805400" cy="2309400"/>
            </a:xfrm>
            <a:custGeom>
              <a:avLst/>
              <a:gdLst>
                <a:gd name="textAreaLeft" fmla="*/ 87840 w 1805400"/>
                <a:gd name="textAreaRight" fmla="*/ 1717560 w 1805400"/>
                <a:gd name="textAreaTop" fmla="*/ 87840 h 2309400"/>
                <a:gd name="textAreaBottom" fmla="*/ 2221560 h 2309400"/>
              </a:gdLst>
              <a:ahLst/>
              <a:rect l="textAreaLeft" t="textAreaTop" r="textAreaRight" b="textAreaBottom"/>
              <a:pathLst>
                <a:path w="21600" h="27629">
                  <a:moveTo>
                    <a:pt x="3600" y="0"/>
                  </a:moveTo>
                  <a:arcTo wR="3600" hR="3600" stAng="16200000" swAng="-5400000"/>
                  <a:lnTo>
                    <a:pt x="0" y="24029"/>
                  </a:lnTo>
                  <a:arcTo wR="3600" hR="3600" stAng="10800000" swAng="-5400000"/>
                  <a:lnTo>
                    <a:pt x="18000" y="27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c0039"/>
                  </a:solidFill>
                  <a:latin typeface="Arial"/>
                </a:rPr>
                <a:t>Динамика качества 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c0039"/>
                  </a:solidFill>
                  <a:latin typeface="Arial"/>
                </a:rPr>
                <a:t>по предмету 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c0039"/>
                  </a:solidFill>
                  <a:latin typeface="Arial"/>
                </a:rPr>
                <a:t>кубановедение 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99" name="_s3080"/>
            <p:cNvSpPr/>
            <p:nvPr/>
          </p:nvSpPr>
          <p:spPr>
            <a:xfrm>
              <a:off x="2771640" y="3724560"/>
              <a:ext cx="1805400" cy="2309400"/>
            </a:xfrm>
            <a:custGeom>
              <a:avLst/>
              <a:gdLst>
                <a:gd name="textAreaLeft" fmla="*/ 87840 w 1805400"/>
                <a:gd name="textAreaRight" fmla="*/ 1717560 w 1805400"/>
                <a:gd name="textAreaTop" fmla="*/ 87840 h 2309400"/>
                <a:gd name="textAreaBottom" fmla="*/ 2221560 h 2309400"/>
              </a:gdLst>
              <a:ahLst/>
              <a:rect l="textAreaLeft" t="textAreaTop" r="textAreaRight" b="textAreaBottom"/>
              <a:pathLst>
                <a:path w="21600" h="27629">
                  <a:moveTo>
                    <a:pt x="3600" y="0"/>
                  </a:moveTo>
                  <a:arcTo wR="3600" hR="3600" stAng="16200000" swAng="-5400000"/>
                  <a:lnTo>
                    <a:pt x="0" y="24029"/>
                  </a:lnTo>
                  <a:arcTo wR="3600" hR="3600" stAng="10800000" swAng="-5400000"/>
                  <a:lnTo>
                    <a:pt x="18000" y="27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c0039"/>
                  </a:solidFill>
                  <a:latin typeface="Arial"/>
                </a:rPr>
                <a:t>2005-2006уч.год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c0039"/>
                  </a:solidFill>
                  <a:latin typeface="Arial"/>
                </a:rPr>
                <a:t>66,2%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97" name="_s3081"/>
            <p:cNvSpPr/>
            <p:nvPr/>
          </p:nvSpPr>
          <p:spPr>
            <a:xfrm>
              <a:off x="4878000" y="3724560"/>
              <a:ext cx="1805400" cy="2309400"/>
            </a:xfrm>
            <a:custGeom>
              <a:avLst/>
              <a:gdLst>
                <a:gd name="textAreaLeft" fmla="*/ 87840 w 1805400"/>
                <a:gd name="textAreaRight" fmla="*/ 1717560 w 1805400"/>
                <a:gd name="textAreaTop" fmla="*/ 87840 h 2309400"/>
                <a:gd name="textAreaBottom" fmla="*/ 2221560 h 2309400"/>
              </a:gdLst>
              <a:ahLst/>
              <a:rect l="textAreaLeft" t="textAreaTop" r="textAreaRight" b="textAreaBottom"/>
              <a:pathLst>
                <a:path w="21600" h="27629">
                  <a:moveTo>
                    <a:pt x="3600" y="0"/>
                  </a:moveTo>
                  <a:arcTo wR="3600" hR="3600" stAng="16200000" swAng="-5400000"/>
                  <a:lnTo>
                    <a:pt x="0" y="24029"/>
                  </a:lnTo>
                  <a:arcTo wR="3600" hR="3600" stAng="10800000" swAng="-5400000"/>
                  <a:lnTo>
                    <a:pt x="18000" y="27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c0039"/>
                  </a:solidFill>
                  <a:latin typeface="Arial"/>
                </a:rPr>
                <a:t>2007-2008 уч.год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c0039"/>
                  </a:solidFill>
                  <a:latin typeface="Arial"/>
                </a:rPr>
                <a:t>73%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</p:txBody>
        </p:sp>
        <p:sp>
          <p:nvSpPr>
            <p:cNvPr id="294" name="_s3082"/>
            <p:cNvSpPr/>
            <p:nvPr/>
          </p:nvSpPr>
          <p:spPr>
            <a:xfrm>
              <a:off x="6984360" y="3724560"/>
              <a:ext cx="1805400" cy="2309400"/>
            </a:xfrm>
            <a:custGeom>
              <a:avLst/>
              <a:gdLst>
                <a:gd name="textAreaLeft" fmla="*/ 87840 w 1805400"/>
                <a:gd name="textAreaRight" fmla="*/ 1717560 w 1805400"/>
                <a:gd name="textAreaTop" fmla="*/ 87840 h 2309400"/>
                <a:gd name="textAreaBottom" fmla="*/ 2221560 h 2309400"/>
              </a:gdLst>
              <a:ahLst/>
              <a:rect l="textAreaLeft" t="textAreaTop" r="textAreaRight" b="textAreaBottom"/>
              <a:pathLst>
                <a:path w="21600" h="27629">
                  <a:moveTo>
                    <a:pt x="3600" y="0"/>
                  </a:moveTo>
                  <a:arcTo wR="3600" hR="3600" stAng="16200000" swAng="-5400000"/>
                  <a:lnTo>
                    <a:pt x="0" y="24029"/>
                  </a:lnTo>
                  <a:arcTo wR="3600" hR="3600" stAng="10800000" swAng="-5400000"/>
                  <a:lnTo>
                    <a:pt x="18000" y="27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c0039"/>
                  </a:solidFill>
                  <a:latin typeface="Arial"/>
                </a:rPr>
                <a:t>2008-2009 уч.год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8c0039"/>
                  </a:solidFill>
                  <a:latin typeface="Arial"/>
                </a:rPr>
                <a:t>81,9%</a:t>
              </a:r>
              <a:endParaRPr b="0" lang="en-US" sz="1500" spc="-1" strike="noStrike">
                <a:solidFill>
                  <a:srgbClr val="8c003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Участие в конкурсах и 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предметных олимпиадах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438280" y="1600200"/>
          <a:ext cx="640080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г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г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г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-льный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,1,1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льный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,5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вой</a:t>
                      </a:r>
                      <a:endParaRPr b="0" lang="en-US" sz="20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,1,2,2</a:t>
                      </a:r>
                      <a:endParaRPr b="0" lang="en-US" sz="24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место</a:t>
                      </a:r>
                      <a:endParaRPr b="0" lang="en-US" sz="2400" spc="-1" strike="noStrike">
                        <a:solidFill>
                          <a:srgbClr val="8c003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Распространение 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педагогического опыт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8280" y="141300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г-краевой педагогический фестиваль«Инновационный поиск-201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г.-краевые педагогические чтения «Актуальные вопросы преподавания кубановедения», г. Красно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8г.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лерские чтения, г. С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7г.- районный научно-практический семинар «Изучение карты мира в аспекте подготовки выпускников к ЕГЭ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ые выступления на районных семинарах молодых специалистов О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внесен в банк данных  ККИДП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О получил одобрение педагогов Шушенского района Красноя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Торбина Жанна Владимировна 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учитель истории МОБУСОШ№9ст.Советской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Новокубанского района Краснодарского края</a:t>
            </a:r>
            <a:br>
              <a:rPr sz="20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«Почетный работник общего образования РФ»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Picture 5" descr="Работу работаю 012"/>
          <p:cNvPicPr/>
          <p:nvPr/>
        </p:nvPicPr>
        <p:blipFill>
          <a:blip r:embed="rId1"/>
          <a:stretch/>
        </p:blipFill>
        <p:spPr>
          <a:xfrm>
            <a:off x="2556000" y="1557360"/>
            <a:ext cx="6248160" cy="49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ППО по данной теме 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м экспертного совета МОУ ДО «ЦРО» внесен в районный банк данных (протокол №5 от 13.05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м учёного совета ККИДППО внесен в краевой банк данных (протокол №344 от 17.02.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Изображениенкв"/>
          <p:cNvPicPr/>
          <p:nvPr/>
        </p:nvPicPr>
        <p:blipFill>
          <a:blip r:embed="rId1"/>
          <a:stretch/>
        </p:blipFill>
        <p:spPr>
          <a:xfrm>
            <a:off x="6300720" y="3645000"/>
            <a:ext cx="2263680" cy="29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сертификат"/>
          <p:cNvPicPr/>
          <p:nvPr/>
        </p:nvPicPr>
        <p:blipFill>
          <a:blip r:embed="rId2"/>
          <a:stretch/>
        </p:blipFill>
        <p:spPr>
          <a:xfrm>
            <a:off x="3203640" y="3645000"/>
            <a:ext cx="2214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то такое ГРАФ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ГРАФ-это математическая модель, использованная для описания соседства стран и реги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На ГРАФе исчезает форма стран, нет привычных цветовых ориентировок. Но можно использовать привычные обозначения: верх-север, низ-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ГРАФ-это средство для тренировки пространственной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н ориентирует на самый сложный аспект запоминания политической карты- связанность террито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ГРАФ чётко выделяет особенности г.п.какой-либо страны  или региона среди других стран, региона, матер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Граф Краснодарского края(начало 21 века)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Задание- с какими странами и субъектами РФ граничит наш край, каковы трудности и проблемы во взаимоотношениях с ними?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4284720" y="3213000"/>
            <a:ext cx="1728720" cy="165600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Краснодар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 Краснодар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Oval 24"/>
          <p:cNvSpPr/>
          <p:nvPr/>
        </p:nvSpPr>
        <p:spPr>
          <a:xfrm>
            <a:off x="4211640" y="24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Oval 25"/>
          <p:cNvSpPr/>
          <p:nvPr/>
        </p:nvSpPr>
        <p:spPr>
          <a:xfrm>
            <a:off x="5867280" y="5013360"/>
            <a:ext cx="1584360" cy="14907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Карачаево-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Черкесская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Республика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г.Черкесск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Oval 26"/>
          <p:cNvSpPr/>
          <p:nvPr/>
        </p:nvSpPr>
        <p:spPr>
          <a:xfrm>
            <a:off x="3419640" y="5300640"/>
            <a:ext cx="1417320" cy="1368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Абхази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Сухуми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Oval 28"/>
          <p:cNvSpPr/>
          <p:nvPr/>
        </p:nvSpPr>
        <p:spPr>
          <a:xfrm>
            <a:off x="2340000" y="3141720"/>
            <a:ext cx="1511280" cy="1368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Украина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Киев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Oval 29"/>
          <p:cNvSpPr/>
          <p:nvPr/>
        </p:nvSpPr>
        <p:spPr>
          <a:xfrm>
            <a:off x="6443640" y="2924280"/>
            <a:ext cx="1584360" cy="1657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Ставрополь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Ставрополь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Oval 30"/>
          <p:cNvSpPr/>
          <p:nvPr/>
        </p:nvSpPr>
        <p:spPr>
          <a:xfrm>
            <a:off x="4140360" y="1557360"/>
            <a:ext cx="1368360" cy="13669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Ростовская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область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Ростов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Line 31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 flipH="1" flipV="1">
            <a:off x="4932360" y="2924280"/>
            <a:ext cx="7128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Oval 39"/>
          <p:cNvSpPr/>
          <p:nvPr/>
        </p:nvSpPr>
        <p:spPr>
          <a:xfrm>
            <a:off x="5219640" y="4653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Oval 40"/>
          <p:cNvSpPr/>
          <p:nvPr/>
        </p:nvSpPr>
        <p:spPr>
          <a:xfrm>
            <a:off x="5292720" y="515772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Oval 41"/>
          <p:cNvSpPr/>
          <p:nvPr/>
        </p:nvSpPr>
        <p:spPr>
          <a:xfrm>
            <a:off x="4788000" y="4365720"/>
            <a:ext cx="1008000" cy="79200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Адыге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Майкоп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 flipH="1" flipV="1">
            <a:off x="4932360" y="2924280"/>
            <a:ext cx="7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 flipH="1">
            <a:off x="6011640" y="371628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 flipH="1" flipV="1">
            <a:off x="5724360" y="4581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 flipV="1">
            <a:off x="4356000" y="4723920"/>
            <a:ext cx="28728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 flipH="1">
            <a:off x="3851280" y="39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Граф Кубанской области (конец 19 века)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Задание-с какими территориями граничила область и каковы были взаимоотношения с ними?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2268360" y="3284640"/>
            <a:ext cx="1729080" cy="1655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Кубанская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Область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г.Екатеринодар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4211640" y="24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Oval 25"/>
          <p:cNvSpPr/>
          <p:nvPr/>
        </p:nvSpPr>
        <p:spPr>
          <a:xfrm>
            <a:off x="6588000" y="3573360"/>
            <a:ext cx="1584360" cy="14907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Терская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область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5867280" y="5300640"/>
            <a:ext cx="1417680" cy="1368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Сухум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округ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Кутаиско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губернии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Oval 27"/>
          <p:cNvSpPr/>
          <p:nvPr/>
        </p:nvSpPr>
        <p:spPr>
          <a:xfrm>
            <a:off x="3708360" y="5229360"/>
            <a:ext cx="1346400" cy="1439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Черноморская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уберни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5867280" y="1628640"/>
            <a:ext cx="1584360" cy="16574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Ставропольска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уберни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3780000" y="1341360"/>
            <a:ext cx="1368360" cy="13669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Область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Войска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Донского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Line 31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Line 32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Line 34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 flipV="1">
            <a:off x="3635280" y="2708280"/>
            <a:ext cx="6494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>
            <a:off x="5076720" y="6021360"/>
            <a:ext cx="7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5003640" y="5877000"/>
            <a:ext cx="8636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Line 41"/>
          <p:cNvSpPr/>
          <p:nvPr/>
        </p:nvSpPr>
        <p:spPr>
          <a:xfrm flipH="1">
            <a:off x="3492360" y="263700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Line 42"/>
          <p:cNvSpPr/>
          <p:nvPr/>
        </p:nvSpPr>
        <p:spPr>
          <a:xfrm flipH="1">
            <a:off x="3851280" y="2997360"/>
            <a:ext cx="2233440" cy="79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 flipH="1">
            <a:off x="3924000" y="4292640"/>
            <a:ext cx="26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Line 44"/>
          <p:cNvSpPr/>
          <p:nvPr/>
        </p:nvSpPr>
        <p:spPr>
          <a:xfrm flipH="1" flipV="1">
            <a:off x="3924000" y="4510080"/>
            <a:ext cx="2087640" cy="10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Line 45"/>
          <p:cNvSpPr/>
          <p:nvPr/>
        </p:nvSpPr>
        <p:spPr>
          <a:xfrm>
            <a:off x="3635280" y="479736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Граф Новокубанского района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Задание- соединить линиями соседствующие регионы, подписать административные центры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4211640" y="2997360"/>
            <a:ext cx="1728720" cy="1655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Новокубан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Новокубанск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Oval 20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Oval 33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Line 44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Line 49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Line 53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Line 54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Line 55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Oval 58"/>
          <p:cNvSpPr/>
          <p:nvPr/>
        </p:nvSpPr>
        <p:spPr>
          <a:xfrm>
            <a:off x="4211640" y="24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Oval 59"/>
          <p:cNvSpPr/>
          <p:nvPr/>
        </p:nvSpPr>
        <p:spPr>
          <a:xfrm>
            <a:off x="6012000" y="4797360"/>
            <a:ext cx="1584360" cy="14907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Успен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Oval 60"/>
          <p:cNvSpPr/>
          <p:nvPr/>
        </p:nvSpPr>
        <p:spPr>
          <a:xfrm>
            <a:off x="3924360" y="5013360"/>
            <a:ext cx="1417680" cy="1368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Отраднен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Oval 61"/>
          <p:cNvSpPr/>
          <p:nvPr/>
        </p:nvSpPr>
        <p:spPr>
          <a:xfrm>
            <a:off x="2268360" y="4221000"/>
            <a:ext cx="1346400" cy="144000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Лабин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Oval 62"/>
          <p:cNvSpPr/>
          <p:nvPr/>
        </p:nvSpPr>
        <p:spPr>
          <a:xfrm>
            <a:off x="2411280" y="2421000"/>
            <a:ext cx="1347840" cy="1368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Курганин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0" name="Oval 63"/>
          <p:cNvSpPr/>
          <p:nvPr/>
        </p:nvSpPr>
        <p:spPr>
          <a:xfrm>
            <a:off x="7020000" y="2924280"/>
            <a:ext cx="1584360" cy="1657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Ставрополь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Oval 64"/>
          <p:cNvSpPr/>
          <p:nvPr/>
        </p:nvSpPr>
        <p:spPr>
          <a:xfrm>
            <a:off x="5508720" y="1700280"/>
            <a:ext cx="1368360" cy="136692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Гулькевичски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Line 65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Line 66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Line 68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Line 69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Line 70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Line 71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Line 72"/>
          <p:cNvSpPr/>
          <p:nvPr/>
        </p:nvSpPr>
        <p:spPr>
          <a:xfrm flipV="1">
            <a:off x="5580000" y="29242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Line 73"/>
          <p:cNvSpPr/>
          <p:nvPr/>
        </p:nvSpPr>
        <p:spPr>
          <a:xfrm>
            <a:off x="5867280" y="386064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Line 74"/>
          <p:cNvSpPr/>
          <p:nvPr/>
        </p:nvSpPr>
        <p:spPr>
          <a:xfrm flipH="1" flipV="1">
            <a:off x="5724000" y="4365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Line 75"/>
          <p:cNvSpPr/>
          <p:nvPr/>
        </p:nvSpPr>
        <p:spPr>
          <a:xfrm flipV="1">
            <a:off x="478800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Line 76"/>
          <p:cNvSpPr/>
          <p:nvPr/>
        </p:nvSpPr>
        <p:spPr>
          <a:xfrm flipV="1">
            <a:off x="3492360" y="4149360"/>
            <a:ext cx="7905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4" name="Line 77"/>
          <p:cNvSpPr/>
          <p:nvPr/>
        </p:nvSpPr>
        <p:spPr>
          <a:xfrm>
            <a:off x="3708360" y="3430440"/>
            <a:ext cx="503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Граф Новокубанского района.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Задание-соедините линиями соседей 2 порядка и сделайте выводы о положении нашего район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2556000" y="2565360"/>
            <a:ext cx="1728720" cy="165564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Новокубан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райо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Новокубанск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Oval 24"/>
          <p:cNvSpPr/>
          <p:nvPr/>
        </p:nvSpPr>
        <p:spPr>
          <a:xfrm>
            <a:off x="6372360" y="1700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6877080" y="4149720"/>
            <a:ext cx="1584360" cy="14907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Чеченская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республика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Грозны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Oval 29"/>
          <p:cNvSpPr/>
          <p:nvPr/>
        </p:nvSpPr>
        <p:spPr>
          <a:xfrm>
            <a:off x="4932360" y="2997360"/>
            <a:ext cx="1584360" cy="1657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Ставропольский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Ставрополь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Line 31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Line 32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7236000" y="1413000"/>
            <a:ext cx="1512720" cy="1584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Дагестан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0039"/>
                </a:solidFill>
                <a:latin typeface="Arial"/>
              </a:rPr>
              <a:t>г.Махачкала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Line 39"/>
          <p:cNvSpPr/>
          <p:nvPr/>
        </p:nvSpPr>
        <p:spPr>
          <a:xfrm>
            <a:off x="4284720" y="35002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Line 40"/>
          <p:cNvSpPr/>
          <p:nvPr/>
        </p:nvSpPr>
        <p:spPr>
          <a:xfrm flipV="1">
            <a:off x="6443640" y="270828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Line 41"/>
          <p:cNvSpPr/>
          <p:nvPr/>
        </p:nvSpPr>
        <p:spPr>
          <a:xfrm>
            <a:off x="6443640" y="41497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021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Задания 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Соединить линиями соседей первого ,второго по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писать названия стран , столиц, субъектов, рег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ти ошибки, не правильно расположенные страны, су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Сделать выводы о плюсах и минусах положения страны,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Сравнить с положением в других исторических эпохах, 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4:43:11Z</dcterms:created>
  <dc:creator>ТОрбины</dc:creator>
  <dc:description/>
  <dc:language>en-US</dc:language>
  <cp:lastModifiedBy>Вьюнова Наталья Николаевна</cp:lastModifiedBy>
  <dcterms:modified xsi:type="dcterms:W3CDTF">2015-05-26T07:01:10Z</dcterms:modified>
  <cp:revision>26</cp:revision>
  <dc:subject/>
  <dc:title>Слайд 1</dc:title>
</cp:coreProperties>
</file>